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F7C-0BE2-4B58-ABF4-5A527FE0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E8C-78CF-43E7-BDC1-2F0936C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EC3-1616-4A2F-B3D3-74F1849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8FA-52A2-4C76-B869-99C31138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FE7-7FE2-4A41-8EAA-3D15C83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266-4FF0-46F4-AFBC-69ABF09B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D4D-E81F-4793-8C65-144D338A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477-22D4-4D26-9A3B-2BF0A623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3BA-81CD-4240-A88A-9830B85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B2B-45BF-41A0-A90C-4E55B57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19F-CBED-4318-9A2C-CA03CA9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75D-5E59-4FD1-8C29-30D7F84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4D5-A0F7-4785-97AD-B06DC074A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28720" y="5302080"/>
            <a:ext cx="122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عوتني إليك أت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ديتني الطريق مشي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سوى وجهِك ما رأ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وجهَ الضي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5680" y="5302080"/>
            <a:ext cx="113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ني منك إلي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أُلقي بعبئي ع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ا أنا جاثٍ لدي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ملأني صف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5:15Z</dcterms:modified>
  <cp:revision>2</cp:revision>
  <dc:subject/>
  <dc:title>PowerPoint Presentation</dc:title>
</cp:coreProperties>
</file>